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4480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4480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CAF3-CD51-4A11-9A21-FA2C5EB0464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4480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C2CE-81F1-4117-8BD7-A0DF74104B7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4480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ation of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fFeatu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cause a class can have static features (attributes/oper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his enables reading/writing values of these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4480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0E2E-D32B-4748-B3B9-B5845A9F6D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42336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44800" y="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6D34-FED3-40BE-8CC8-DD9704875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95F0-7956-4080-BBC8-472F1ABBB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7E82-0406-4BE6-9CBB-018C88F3C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68ED-9A05-4770-BAE8-5210BBA2EC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FFE7-B26F-4AB4-8372-3D7FACC76C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1FE6-0AC3-4A7D-B8DB-A679BF55D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974F-14C4-4184-8138-6A9211D9B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01CFB-4767-4FA4-8D69-C875F6832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E47E-D2CA-49D8-95A2-00672D1B4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125F-368C-49CE-BB38-90197C6A3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C283-D9B1-4555-B1E5-04F6BBA32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28AB-F488-45F3-8B9A-C35AB471B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Java Metadata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493B14BE-1AA2-4058-9521-4FDC35CB676C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153200" y="6613560"/>
            <a:ext cx="19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Comic Sans MS"/>
              </a:rPr>
              <a:t>© 2006 LIP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A presentation of J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2"/>
                </a:solidFill>
                <a:latin typeface="Comic Sans MS"/>
              </a:rPr>
              <a:t>Java Metadata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LIP6, Laboratoire d'Informatique de Paris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8, rue du Capitaine Sco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75015 Paris,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2"/>
                </a:solidFill>
                <a:latin typeface="Comic Sans MS"/>
              </a:rPr>
              <a:t>http://www-src.lip6.fr/homepages/Marie-Pierre.Gerv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LIP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4400" y="6199200"/>
            <a:ext cx="669960" cy="65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437C-6289-4FD0-B62A-596E793B2B4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fBaseObjec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presents any element (of a model or of a metamodel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ffers th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MetaObject()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opera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eturns the metaclass of the element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ype of the metaclass :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efObjec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(inherits from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efBaseObject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nables the navigation to the meta levels for discovering the structure of model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4EF8-0015-42C3-8293-04698DBB30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fFeatured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Specialization of 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RefBaseObject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Offers operations to access the element properties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ttribute, reference, operatio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refGetValue()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and 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refSetValue()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operations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Read and Write the property valu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gnatures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void refSetValue(String propName, Object propValue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Object refGetValue(String propName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put parameter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propNam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: a string identifying the property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86F8-D46B-48B1-A348-9DCE74DE6E2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fClas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pecialization of 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RefFeatured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presents the notion of element factory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nables to build instances of a metaclas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re is a 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RefClass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per a meta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ffers the  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refCreateInstance()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ion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reation of an instance of a metaclas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40EB-1862-4DBA-837F-117386B961B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fObjec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pecialization of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Featured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presents the notion of an element that is an instance of a meta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ffers th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IsInstance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()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ion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heck whether this element is the instance of a given metaclas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5B9F-CCB2-4386-905D-DA6DD5F52FE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fAssocia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pecialization of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BaseObject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presents the notion of links between elements (i.e.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Objects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ffers th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AddLink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()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RemoveLink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()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dd and Remove links between element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3FE7-5798-4E8B-AE52-9D924F1EB19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fPackag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pecialization of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BaseObject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presents the notion of package (container of metaclasses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ffers th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GetClass()</a:t>
            </a:r>
            <a:r>
              <a:rPr b="0" lang="en-US" sz="25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ion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List of the metaclasses (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efClass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) contained in the packag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2819-2359-415B-A2BB-A87E4ED7C93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ample : the Use Case Diagram (UCD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Comic Sans MS"/>
              </a:rPr>
              <a:t>Construction of a model M</a:t>
            </a:r>
            <a:endParaRPr b="0" lang="en-US" sz="33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Comic Sans MS"/>
              </a:rPr>
              <a:t>(instance of a metamodel)</a:t>
            </a:r>
            <a:endParaRPr b="0" lang="en-US" sz="33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4BC4-961C-43EF-8F0A-91959433C74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080" y="152280"/>
            <a:ext cx="6819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UCD metamodel and the model M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9528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 model M compliant to U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29520" y="267192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he UCD meta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057400" y="1096920"/>
            <a:ext cx="5943600" cy="5761080"/>
            <a:chOff x="2057400" y="1096920"/>
            <a:chExt cx="5943600" cy="5761080"/>
          </a:xfrm>
        </p:grpSpPr>
        <p:grpSp>
          <p:nvGrpSpPr>
            <p:cNvPr id="120" name=""/>
            <p:cNvGrpSpPr/>
            <p:nvPr/>
          </p:nvGrpSpPr>
          <p:grpSpPr>
            <a:xfrm>
              <a:off x="2057400" y="1096920"/>
              <a:ext cx="5943600" cy="5761080"/>
              <a:chOff x="2057400" y="1096920"/>
              <a:chExt cx="5943600" cy="5761080"/>
            </a:xfrm>
          </p:grpSpPr>
          <p:graphicFrame>
            <p:nvGraphicFramePr>
              <p:cNvPr id="121" name=""/>
              <p:cNvGraphicFramePr/>
              <p:nvPr/>
            </p:nvGraphicFramePr>
            <p:xfrm>
              <a:off x="2627280" y="1096920"/>
              <a:ext cx="5303880" cy="5761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627280" y="1096920"/>
                        <a:ext cx="5303880" cy="576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3" name=""/>
              <p:cNvSpPr/>
              <p:nvPr/>
            </p:nvSpPr>
            <p:spPr>
              <a:xfrm>
                <a:off x="2057400" y="4419720"/>
                <a:ext cx="594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73440" y="2665440"/>
                <a:ext cx="82440" cy="11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127200" y="230652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7F92-A422-43C2-99D6-A86F369C32B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struction of the model M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With the reflective interfaces (without generating the metamodel-specific API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Writing the program that creates the model by using directly the operations of the reflective interface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Need the implementation of the reflective interfaces (such as ModFact*,  MDR*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Bootstrapping application (i.e. obtaining the instance of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RefPackag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): implementation-specific mechanism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 See references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4DC1-B430-46CF-AB8A-3377073FF3E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struction of the model M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1] RefPackage p = //proprietary mechanism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2] RefObject act =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p.refClass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Actor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.refCreateInstance(</a:t>
            </a:r>
            <a:r>
              <a:rPr b="1" lang="en-US" sz="1600" spc="-1" strike="noStrike">
                <a:solidFill>
                  <a:srgbClr val="7f0055"/>
                </a:solidFill>
                <a:latin typeface="Courier New"/>
              </a:rPr>
              <a:t>null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3] act.refSetValue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nam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Client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4] RefObject ca1 = p.refClass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UseCas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.refCreateInstance(</a:t>
            </a:r>
            <a:r>
              <a:rPr b="1" lang="en-US" sz="1600" spc="-1" strike="noStrike">
                <a:solidFill>
                  <a:srgbClr val="7f0055"/>
                </a:solidFill>
                <a:latin typeface="Courier New"/>
              </a:rPr>
              <a:t>null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5] ca1.refSetValue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titl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CartOrder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6] RefObject ca2 = p.refClass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 UseCas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.refCreateInstance(</a:t>
            </a:r>
            <a:r>
              <a:rPr b="1" lang="en-US" sz="1600" spc="-1" strike="noStrike">
                <a:solidFill>
                  <a:srgbClr val="7f0055"/>
                </a:solidFill>
                <a:latin typeface="Courier New"/>
              </a:rPr>
              <a:t>null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7]ca2.refSetValue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titl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CartValidation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8]Collection col = (Collection) act.refGetValue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participat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9]col.add(ca1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10]col.add(ca2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11]RefObject sys = p.refClass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System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.refCreateInstance(</a:t>
            </a:r>
            <a:r>
              <a:rPr b="1" lang="en-US" sz="1600" spc="-1" strike="noStrike">
                <a:solidFill>
                  <a:srgbClr val="7f0055"/>
                </a:solidFill>
                <a:latin typeface="Courier New"/>
              </a:rPr>
              <a:t>null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12]sys.refSetValue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nam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PetStor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13]Collection cas = (Collection) sys.refGetValue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cas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14]cas.add(ca1);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15]cas.add(ca2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B6FD-72B7-40A0-9615-04DCA128A36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xt of this wor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present courseware has been elaborated in the context of ModelWare European  IST FP6 project (http://www.modelware-ist.org/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ODELWARE project (Modelling solution for software systems) brings together 19 partners from Europe and Israel. Its main objectives are to develop a solution to reduce the cost of software systems large-scale deployment by the means of  Model Driven Development technique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o achieve the goals of large-scale dissemination of MDD techniques, ModelWare is also promoting the idea of collaborative development of courseware in this domain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DD courseware provided here with the status of open source software is produced under the EPL 1.0 licence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6" name="" descr="www.modelware-ist.org Forum 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5240" y="247680"/>
            <a:ext cx="483876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948F-6272-48F6-A0D3-E02A416E0CE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Tailored Interfac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Offer dedicated operations for handling models that are instances of a particular metamodel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Example : operations for handling UCD models (instances of the UCD metamodel)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28EA-0BDF-4D5A-BDBD-21D2C5CB267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Naviga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tailored interfaces generated for the UCD metamodel enable, for each UCD model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o get the number of actors, use cases, system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o get the name of an actor (of a use case, of a system) and to modify it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o get the inheritance links between actors and to modify them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o get the use cases in which an actor participates and to modify them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o add/remove a use cas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4121-DC28-4318-91DA-317EFE5AAE1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Generation Rul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JMI1.0 defines the taylored interfaces generation from MOF1.4 metamodels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Presentation of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etaclass Rul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eta-association Rul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etapackage Rul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5205-97DE-4D15-A366-9F129CA18EC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metaclass Ru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r a metaclass of a metamodel :</a:t>
            </a:r>
            <a:br>
              <a:rPr sz="2500"/>
            </a:b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WO interfac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Instance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Interfac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ffers the operations to read/modify the instances of the metaclas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Factory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Interfac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ffers the operations to create the instances of the metaclass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B601-FCD8-4B04-8D7A-6B6CFD37DB4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1" i="1" lang="en-US" sz="2400" spc="-1" strike="noStrike">
                <a:solidFill>
                  <a:srgbClr val="000066"/>
                </a:solidFill>
                <a:latin typeface="Comic Sans MS"/>
              </a:rPr>
              <a:t>Instance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Interfac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ts name = name of the meta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ffers the get/set operations for each meta-attribute of the meta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. Setting the name of an Actor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ffers the operations of navigation for each metareference of the meta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. Navigating from a UseCase to an Actor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pecialization of the reflective interfac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Object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CF7F-6EB3-41D7-9395-9C766A26996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1" i="1" lang="en-US" sz="2400" spc="-1" strike="noStrike">
                <a:solidFill>
                  <a:srgbClr val="000066"/>
                </a:solidFill>
                <a:latin typeface="Comic Sans MS"/>
              </a:rPr>
              <a:t>Factory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Interfac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ts name :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name_metaclassClas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ffers the operations to create instances of the meta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. Creating instances of Actor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pecialization of the reflective interfac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Clas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26C4-AFD0-4077-8B3D-28806E67EDE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Meta-association Ru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For a meta-association of a metamodel : </a:t>
            </a:r>
            <a:br>
              <a:rPr sz="2100"/>
            </a:b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ONE interface (</a:t>
            </a:r>
            <a:r>
              <a:rPr b="0" i="1" lang="en-US" sz="2100" spc="-1" strike="noStrike">
                <a:solidFill>
                  <a:srgbClr val="000066"/>
                </a:solidFill>
                <a:latin typeface="Comic Sans MS"/>
              </a:rPr>
              <a:t>Meta-association interface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Its name = name of the meta-associatio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Offers the operations to create links between the instances of metaclasses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x. Linking the instances I1 and I2 with the meta-association A1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Offers the operations to navigate through the link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x. Obtaining I2 from I1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Specialization of the reflective interface 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RefAssociatio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710C-B1B7-4386-A54E-794084450EF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Metapackage Ru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For a package of a metamodel : </a:t>
            </a:r>
            <a:br>
              <a:rPr sz="1900"/>
            </a:b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ONE interface (</a:t>
            </a:r>
            <a:r>
              <a:rPr b="0" i="1" lang="en-US" sz="1900" spc="-1" strike="noStrike">
                <a:solidFill>
                  <a:srgbClr val="000066"/>
                </a:solidFill>
                <a:latin typeface="Comic Sans MS"/>
              </a:rPr>
              <a:t>Package</a:t>
            </a: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 interface)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Its name = package name + suffix "</a:t>
            </a:r>
            <a:r>
              <a:rPr b="0" lang="en-US" sz="1900" spc="-1" strike="noStrike">
                <a:solidFill>
                  <a:srgbClr val="000066"/>
                </a:solidFill>
                <a:latin typeface="Courier New"/>
              </a:rPr>
              <a:t>Package</a:t>
            </a: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"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x. "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Ucd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" + "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Packag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" </a:t>
            </a:r>
            <a:r>
              <a:rPr b="0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UcdPackag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Offers the operations enabling to get all the </a:t>
            </a:r>
            <a:r>
              <a:rPr b="0" i="1" lang="en-US" sz="1900" spc="-1" strike="noStrike">
                <a:solidFill>
                  <a:srgbClr val="000066"/>
                </a:solidFill>
                <a:latin typeface="Comic Sans MS"/>
              </a:rPr>
              <a:t>Factory interfaces </a:t>
            </a: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of the metaclasses in this metapackage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Ex. Getting Factories for the metaclasses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Usecas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ystem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Actor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Offers the operations enabling to get all the </a:t>
            </a:r>
            <a:r>
              <a:rPr b="0" i="1" lang="en-US" sz="1900" spc="-1" strike="noStrike">
                <a:solidFill>
                  <a:srgbClr val="000066"/>
                </a:solidFill>
                <a:latin typeface="Comic Sans MS"/>
              </a:rPr>
              <a:t>Meta-association interface</a:t>
            </a: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s of this metapackage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Ex. Getting Assocation interfaces for the meta-associations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includ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", 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extend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"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Specialization of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the reflective interface </a:t>
            </a:r>
            <a:r>
              <a:rPr b="0" lang="en-US" sz="1900" spc="-1" strike="noStrike">
                <a:solidFill>
                  <a:srgbClr val="000066"/>
                </a:solidFill>
                <a:latin typeface="Courier New"/>
              </a:rPr>
              <a:t>RefPackage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5936-5884-4BAE-99C1-88F6CAC5EF6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ample: the Use Case Diagram (UCD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Comic Sans MS"/>
              </a:rPr>
              <a:t>Generation of the tailored interfaces</a:t>
            </a:r>
            <a:endParaRPr b="0" lang="en-US" sz="33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Comic Sans MS"/>
              </a:rPr>
              <a:t>Construction of the model M</a:t>
            </a:r>
            <a:endParaRPr b="0" lang="en-US" sz="33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22DB-D6CF-4D22-A585-F52ABD29FE4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List (1): Results of Metaclass Rule</a:t>
            </a:r>
            <a:endParaRPr b="1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or.java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Generated from the metaclass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Actor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(Instance interface)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provides the operations: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getName()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etName()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getParticipate(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orClass.java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Generated from the metaclass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Actor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(Factory interface)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provides the operation: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createActor(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java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Generated from the metaclass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ystem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(Instance interface)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provides the operations: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getName()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etName()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getUseCase(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Class.java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Generated from the metaclass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ystem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(Factory interface)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provides the operation: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createSystem(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Case.java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Generated from the metaclass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UseCas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(Instance interface)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provides the operations: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getTitle()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setTitle()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getInclude()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getExtend(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CaseClass.java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Generated from the metaclass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UseCase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(Factory interface)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provides the operation: 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createUseCase()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DED5-A07A-4F0E-9FEF-E4069E751D1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Outlin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Overview of the standard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The JMI interfaces categori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The reflective interfac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Translation rul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An exemple :  the Use Case Diagram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The tailored interfac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Translation rul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An exemple : the Use Case Diagram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97DA-F3DD-4C2D-A997-2BE58AEDD9B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List (2) : Results of Meta-association Rule</a:t>
            </a:r>
            <a:endParaRPr b="1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UseCaseSystem.java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Generated from the meta-association between the metaclasse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UseCas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System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InheritActor.java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Generated from the meta-association on the metaclas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cto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(an Actor inherits another Actor)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ParticipateActor.java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Generated from the meta-association between  the metaclasse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Use Cas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et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ctor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(an Actor participates in a UseCase)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IncludeUseCase.java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Generated from the meta-association on the metaclas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Use Cas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(A UseCase includes another UseCase)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ExtendUseCase.java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Generated from the meta-association on the metaclas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Use Case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(A UseCase extends another UseCase)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9B12-36B0-4B24-AFAC-CC0AB99A9D9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List (3) : Result of Metapackage Rule</a:t>
            </a:r>
            <a:endParaRPr b="1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cdPackage.java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Generated from the metapackage containing all these metaclasses and meta-association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Has the following operations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Getting all Factory interfaces: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SystemClass getSystem()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UseCaseClass getUseCase()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ActorClass getActor()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Getting all Meta-association interfaces: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UseCaseSystem getAUseCaseSystem();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InheriteActor getAInheriteActor();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…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..</a:t>
            </a:r>
            <a:endParaRPr b="0" lang="en-US" sz="1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FCE3-465B-485D-BD9C-990CA385C2A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struction of the model M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1]UcdPackage extent = //proprietary mechanism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2]System sys = extent.getSystem().createSystem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PetStore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3]Actor ac = extent.getActor().createActor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Client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4]UseCase ca = extent.getUseCase ().createUseCase 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CartOrder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5]UseCase ca2 = extent.getUseCase() .createUseCase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</a:rPr>
              <a:t>"CartValidation"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6]ac.getParticipate().add(ca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7]ac.getParticipate().add(ca2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8]sys.getUseCase().add(ca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[9]sys.getUseCase().add(ca2)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A8E2-902F-4894-9000-AB85222122E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Referenc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White Paper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http://java.sun.com/products/jmi/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Download JMI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http://java.sun.com/products/jmi/download.htm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http://packages.debian.org/unstable/libs/libgnujmi-java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Repository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ttp://mdr.netbeans.org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ttp://modfact.lip6.fr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22E5-1189-4BC4-91AF-4084652E84B7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tiona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model is an abstract entity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model is structured by its metamod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metamodel is an abstract entity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metamodel is structured by MOF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MOF is an abstract entity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o handle (meta*)models, they need to be represented in an electronic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3424-128E-4BAD-B363-5749802734B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Java Model Interface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fined by JCP (Java Community Process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nable to represent models in the form of Java object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fines rules enabling to build Java interfaces from a metamod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JMI1.0 (final release, 28 June 2002) applies to MOF1.4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61A2-B07F-46B4-B492-153CAFC6DE7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JMI: princip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124000" y="2708280"/>
            <a:ext cx="934920" cy="719280"/>
            <a:chOff x="2124000" y="2708280"/>
            <a:chExt cx="934920" cy="719280"/>
          </a:xfrm>
        </p:grpSpPr>
        <p:sp>
          <p:nvSpPr>
            <p:cNvPr id="65" name=""/>
            <p:cNvSpPr/>
            <p:nvPr/>
          </p:nvSpPr>
          <p:spPr>
            <a:xfrm>
              <a:off x="2124000" y="2851200"/>
              <a:ext cx="934920" cy="5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24000" y="2708280"/>
              <a:ext cx="360360" cy="14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405080" y="4438800"/>
            <a:ext cx="934920" cy="718560"/>
            <a:chOff x="1405080" y="4438800"/>
            <a:chExt cx="934920" cy="718560"/>
          </a:xfrm>
        </p:grpSpPr>
        <p:sp>
          <p:nvSpPr>
            <p:cNvPr id="68" name=""/>
            <p:cNvSpPr/>
            <p:nvPr/>
          </p:nvSpPr>
          <p:spPr>
            <a:xfrm>
              <a:off x="1405080" y="4581360"/>
              <a:ext cx="934920" cy="57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05080" y="4438800"/>
              <a:ext cx="360360" cy="14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908000" y="4726080"/>
            <a:ext cx="934920" cy="718560"/>
            <a:chOff x="1908000" y="4726080"/>
            <a:chExt cx="934920" cy="718560"/>
          </a:xfrm>
        </p:grpSpPr>
        <p:sp>
          <p:nvSpPr>
            <p:cNvPr id="71" name=""/>
            <p:cNvSpPr/>
            <p:nvPr/>
          </p:nvSpPr>
          <p:spPr>
            <a:xfrm>
              <a:off x="1908000" y="4868640"/>
              <a:ext cx="93492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08000" y="4726080"/>
              <a:ext cx="360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557440" y="5014800"/>
            <a:ext cx="934920" cy="719280"/>
            <a:chOff x="2557440" y="5014800"/>
            <a:chExt cx="934920" cy="719280"/>
          </a:xfrm>
        </p:grpSpPr>
        <p:sp>
          <p:nvSpPr>
            <p:cNvPr id="74" name=""/>
            <p:cNvSpPr/>
            <p:nvPr/>
          </p:nvSpPr>
          <p:spPr>
            <a:xfrm>
              <a:off x="2557440" y="5157720"/>
              <a:ext cx="93492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57440" y="5014800"/>
              <a:ext cx="360360" cy="1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427640" y="2205000"/>
            <a:ext cx="0" cy="374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40053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940360" y="2564640"/>
            <a:ext cx="647640" cy="934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4240" y="3433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eta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9200" y="53053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42800" y="336240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ava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88400" y="53053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ava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292720" y="4437000"/>
            <a:ext cx="647640" cy="935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796000" y="4724280"/>
            <a:ext cx="647640" cy="935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00720" y="5012640"/>
            <a:ext cx="647640" cy="934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979280" y="371628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484000" y="3716280"/>
            <a:ext cx="71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3716280"/>
            <a:ext cx="288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724360" y="3573360"/>
            <a:ext cx="432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156000" y="3573360"/>
            <a:ext cx="144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16720" y="3573360"/>
            <a:ext cx="1429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4724280"/>
            <a:ext cx="1584360" cy="432000"/>
          </a:xfrm>
          <a:prstGeom prst="rightArrow">
            <a:avLst>
              <a:gd name="adj1" fmla="val 50000"/>
              <a:gd name="adj2" fmla="val 916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2924280"/>
            <a:ext cx="1584360" cy="431640"/>
          </a:xfrm>
          <a:prstGeom prst="rightArrow">
            <a:avLst>
              <a:gd name="adj1" fmla="val 50000"/>
              <a:gd name="adj2" fmla="val 91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715F-419E-4DF8-B446-415927894E6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JMI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Java API for handling model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nterfaces providing operations 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velop a CASE tool for handling a model = develop a program using (invoking) the API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F647-7A0F-45C8-8FFC-7D76592C2BC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JMI Interfac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wo categori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eflectiv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Provides means to dynamically discover information on a model element (i.e., access to its meta-class)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Usable for all types of model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dependent from the metamodel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A model is a set of linked model elements, instances of meta-classes </a:t>
            </a:r>
            <a:endParaRPr b="0" lang="en-US" sz="12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ailored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Dedicated to a type of models (models that are instances of the same metamodel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Depending on the structure of this type of models (i.e., depending on the metamodel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D432-ABF3-4E66-B459-7050E1ABFCE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Reflective Interfac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415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499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138320"/>
          <a:ext cx="7056360" cy="53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38320"/>
                    <a:ext cx="705636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9703-24CF-42AB-8273-F4E2D3D74A8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David Touzet</dc:creator>
  <dc:description/>
  <dc:language>en-US</dc:language>
  <cp:lastModifiedBy>Kurtev</cp:lastModifiedBy>
  <cp:lastPrinted>2006-01-26T14:25:31Z</cp:lastPrinted>
  <dcterms:modified xsi:type="dcterms:W3CDTF">2006-07-17T11:37:09Z</dcterms:modified>
  <cp:revision>920</cp:revision>
  <dc:subject/>
  <dc:title>Models Manip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4204776</vt:r8>
  </property>
  <property fmtid="{D5CDD505-2E9C-101B-9397-08002B2CF9AE}" pid="3" name="_AuthorEmail">
    <vt:lpwstr>jean.bezivin@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ModelWare 4.6</vt:lpwstr>
  </property>
  <property fmtid="{D5CDD505-2E9C-101B-9397-08002B2CF9AE}" pid="6" name="_ReviewingToolsShownOnce">
    <vt:lpwstr/>
  </property>
</Properties>
</file>